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D92-4266-45BF-A25C-25D41CFE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DF6-9502-4C07-8ED8-1861C4E3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C59-C291-4BEC-925E-8F0A35E4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315-D67B-45CA-B145-4CCC75FB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ABA3-A55E-4695-A3AC-6F5EF635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A64-6B48-44FC-AAFA-3AA675DA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A52-8DCB-4A03-8AE4-DD8FE25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4FF-5358-44E2-BFDA-CDE06496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AB8-43E2-4CE4-B7E5-493D6372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1058-A851-4D0D-B2C5-3F736D4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AE2-D6D3-4811-876D-845390E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6E3-34F6-4AF0-A573-12728BA4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C58-7AA2-4274-94BB-C531576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4DAE-09FE-44E3-9C16-99B27A3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BD1F-9C2A-4270-A1A1-E4829CFA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375-4446-4CD6-8951-5A2A5A7D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8788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89960" y="3339000"/>
            <a:ext cx="247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718D-AF35-4C5B-B9F1-DBD69A9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213-D6DC-4460-8BC6-95568285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53C-83B0-4A56-9703-5D1AAFF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9A0-4C48-4F94-A6CF-8D6E1BB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620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7C1-68E6-4613-BFCC-5C9CA34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0C4-CE93-4DB8-95C6-58DBDBE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33900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FB2-4AB5-42A9-8456-389614D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339000"/>
            <a:ext cx="769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39-367D-4BB3-8651-0B7615AE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4EC8-E407-4A78-804E-712BE70E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3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4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3" name="Freeform 28"/>
          <p:cNvSpPr/>
          <p:nvPr/>
        </p:nvSpPr>
        <p:spPr>
          <a:xfrm>
            <a:off x="838080" y="525780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C17E-457C-4A5D-8A17-184A8A4AE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ni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0" y="3505320"/>
            <a:ext cx="1676520" cy="1980720"/>
            <a:chOff x="0" y="3505320"/>
            <a:chExt cx="1676520" cy="1980720"/>
          </a:xfrm>
        </p:grpSpPr>
        <p:sp>
          <p:nvSpPr>
            <p:cNvPr id="108" name="Freeform 10"/>
            <p:cNvSpPr/>
            <p:nvPr/>
          </p:nvSpPr>
          <p:spPr>
            <a:xfrm>
              <a:off x="37800" y="3556440"/>
              <a:ext cx="1580760" cy="17982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30240" y="3704760"/>
              <a:ext cx="1576800" cy="178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246600" y="3851640"/>
              <a:ext cx="1045440" cy="1625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0" y="3505320"/>
              <a:ext cx="1676520" cy="1911600"/>
              <a:chOff x="0" y="3505320"/>
              <a:chExt cx="1676520" cy="1911600"/>
            </a:xfrm>
          </p:grpSpPr>
          <p:sp>
            <p:nvSpPr>
              <p:cNvPr id="112" name="Freeform 14"/>
              <p:cNvSpPr/>
              <p:nvPr/>
            </p:nvSpPr>
            <p:spPr>
              <a:xfrm>
                <a:off x="1322280" y="4895280"/>
                <a:ext cx="148680" cy="37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Freeform 15"/>
              <p:cNvSpPr/>
              <p:nvPr/>
            </p:nvSpPr>
            <p:spPr>
              <a:xfrm>
                <a:off x="0" y="3505320"/>
                <a:ext cx="1676520" cy="191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Freeform 16"/>
              <p:cNvSpPr/>
              <p:nvPr/>
            </p:nvSpPr>
            <p:spPr>
              <a:xfrm>
                <a:off x="141120" y="3522960"/>
                <a:ext cx="1184760" cy="10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Freeform 17"/>
              <p:cNvSpPr/>
              <p:nvPr/>
            </p:nvSpPr>
            <p:spPr>
              <a:xfrm>
                <a:off x="200880" y="3687120"/>
                <a:ext cx="159480" cy="72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Freeform 18"/>
              <p:cNvSpPr/>
              <p:nvPr/>
            </p:nvSpPr>
            <p:spPr>
              <a:xfrm>
                <a:off x="507960" y="4191480"/>
                <a:ext cx="485280" cy="64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730280" y="1854360"/>
            <a:ext cx="979560" cy="1159560"/>
            <a:chOff x="7730280" y="1854360"/>
            <a:chExt cx="979560" cy="1159560"/>
          </a:xfrm>
        </p:grpSpPr>
        <p:sp>
          <p:nvSpPr>
            <p:cNvPr id="118" name="Freeform 20"/>
            <p:cNvSpPr/>
            <p:nvPr/>
          </p:nvSpPr>
          <p:spPr>
            <a:xfrm rot="7320000">
              <a:off x="7725240" y="2197080"/>
              <a:ext cx="998640" cy="4647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21"/>
            <p:cNvSpPr/>
            <p:nvPr/>
          </p:nvSpPr>
          <p:spPr>
            <a:xfrm rot="7320000">
              <a:off x="7700760" y="2175480"/>
              <a:ext cx="995400" cy="4600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22"/>
            <p:cNvSpPr/>
            <p:nvPr/>
          </p:nvSpPr>
          <p:spPr>
            <a:xfrm rot="7320000">
              <a:off x="7869240" y="2159640"/>
              <a:ext cx="66060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" name="Group 23"/>
            <p:cNvGrpSpPr/>
            <p:nvPr/>
          </p:nvGrpSpPr>
          <p:grpSpPr>
            <a:xfrm>
              <a:off x="7730280" y="1854360"/>
              <a:ext cx="979560" cy="1159560"/>
              <a:chOff x="7730280" y="1854360"/>
              <a:chExt cx="979560" cy="1159560"/>
            </a:xfrm>
          </p:grpSpPr>
          <p:sp>
            <p:nvSpPr>
              <p:cNvPr id="122" name="Freeform 24"/>
              <p:cNvSpPr/>
              <p:nvPr/>
            </p:nvSpPr>
            <p:spPr>
              <a:xfrm rot="7320000">
                <a:off x="7849800" y="260028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Freeform 25"/>
              <p:cNvSpPr/>
              <p:nvPr/>
            </p:nvSpPr>
            <p:spPr>
              <a:xfrm rot="7320000">
                <a:off x="7690320" y="2187360"/>
                <a:ext cx="1058760" cy="49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Freeform 26"/>
              <p:cNvSpPr/>
              <p:nvPr/>
            </p:nvSpPr>
            <p:spPr>
              <a:xfrm rot="7320000">
                <a:off x="7968240" y="2293560"/>
                <a:ext cx="74952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Freeform 27"/>
              <p:cNvSpPr/>
              <p:nvPr/>
            </p:nvSpPr>
            <p:spPr>
              <a:xfrm rot="7320000">
                <a:off x="8447400" y="2097720"/>
                <a:ext cx="99720" cy="18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Freeform 28"/>
              <p:cNvSpPr/>
              <p:nvPr/>
            </p:nvSpPr>
            <p:spPr>
              <a:xfrm rot="7320000">
                <a:off x="8086680" y="229788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7" name="Freeform 29"/>
          <p:cNvSpPr/>
          <p:nvPr/>
        </p:nvSpPr>
        <p:spPr>
          <a:xfrm>
            <a:off x="914400" y="60948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Freeform 30"/>
          <p:cNvSpPr/>
          <p:nvPr/>
        </p:nvSpPr>
        <p:spPr>
          <a:xfrm>
            <a:off x="457200" y="5791320"/>
            <a:ext cx="888840" cy="38088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Keyboard and Mouse events, objects can also respond to step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events are tied to the system timer. Step events are generated each secon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number of step events for a room is 30 steps per secon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perty window of room, you can change the default spe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teps is tied to the speed of ob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current speed for bears is 1. This means that the bear moves 1 pixel per step, or 30 pixels per seco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Coordinates.pd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increase the speed of the bear each time the user catches the b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creasing the speed by 1 each time, the bear will gradually move fa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he speed of bear by one each time (Check Rela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6858000" cy="5516280"/>
          </a:xfrm>
          <a:prstGeom prst="rect">
            <a:avLst/>
          </a:prstGeom>
          <a:ln w="0">
            <a:noFill/>
          </a:ln>
        </p:spPr>
      </p:pic>
      <p:sp>
        <p:nvSpPr>
          <p:cNvPr id="158" name="Oval 5"/>
          <p:cNvSpPr/>
          <p:nvPr/>
        </p:nvSpPr>
        <p:spPr>
          <a:xfrm>
            <a:off x="5562720" y="5791320"/>
            <a:ext cx="20574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ng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Maker has scoring capabilities built-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dd a score to your g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the score at the beginning of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it each time a bear has been cau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lize Score in Create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070840" cy="5105520"/>
          </a:xfrm>
          <a:prstGeom prst="rect">
            <a:avLst/>
          </a:prstGeom>
          <a:ln w="0">
            <a:noFill/>
          </a:ln>
        </p:spPr>
      </p:pic>
      <p:sp>
        <p:nvSpPr>
          <p:cNvPr id="164" name="Oval 4"/>
          <p:cNvSpPr/>
          <p:nvPr/>
        </p:nvSpPr>
        <p:spPr>
          <a:xfrm>
            <a:off x="7315200" y="3505320"/>
            <a:ext cx="6858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core in Left Button ev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ice that relative is check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199280" cy="5791320"/>
          </a:xfrm>
          <a:prstGeom prst="rect">
            <a:avLst/>
          </a:prstGeom>
          <a:ln w="0">
            <a:noFill/>
          </a:ln>
        </p:spPr>
      </p:pic>
      <p:sp>
        <p:nvSpPr>
          <p:cNvPr id="168" name="Oval 5"/>
          <p:cNvSpPr/>
          <p:nvPr/>
        </p:nvSpPr>
        <p:spPr>
          <a:xfrm>
            <a:off x="4952880" y="6172200"/>
            <a:ext cx="2057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2" descr=""/>
          <p:cNvPicPr/>
          <p:nvPr/>
        </p:nvPicPr>
        <p:blipFill>
          <a:blip r:embed="rId1"/>
          <a:stretch/>
        </p:blipFill>
        <p:spPr>
          <a:xfrm>
            <a:off x="225360" y="-146160"/>
            <a:ext cx="8620200" cy="147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086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Game:  Catch a B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mouse events to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Create events to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ch a Bear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MovingBear program from Unit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keyboard events from the bear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 Create event to the bear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 Mouse event to the bear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vent happens when an object is created in a room (like the bear). It is normally used to set the object in motion and/or to initialize some values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bear example, we want the bear to start moving in any random direction as soon as the game has star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660240" y="1143000"/>
            <a:ext cx="8483760" cy="5029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 a Create Event to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5715000" y="4038480"/>
            <a:ext cx="17524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02920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 of the 8 dir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0" name="Straight Arrow Connector 8"/>
          <p:cNvCxnSpPr>
            <a:stCxn id="139" idx="0"/>
            <a:endCxn id="138" idx="4"/>
          </p:cNvCxnSpPr>
          <p:nvPr/>
        </p:nvCxnSpPr>
        <p:spPr>
          <a:xfrm flipH="1" flipV="1">
            <a:off x="6590520" y="5409720"/>
            <a:ext cx="22932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use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use event happens for an object whenever the mouse cursor lies inside the sprite representing the obj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buttons: &lt;no button&gt; &lt;left button&gt;, &lt;right button&gt; or &lt;middle button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use but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s are generated in each step as long as the user keeps the mouse button pres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use p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s are only generated once when the button is pres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eft Button event to the bear – Use left button to catch the b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64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bear to a random position when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513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ove the bear in another random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7724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31:13Z</dcterms:created>
  <dc:creator>Sherry Yang</dc:creator>
  <dc:description/>
  <dc:language>en-US</dc:language>
  <cp:lastModifiedBy>yangs</cp:lastModifiedBy>
  <dcterms:modified xsi:type="dcterms:W3CDTF">2008-10-05T23:46:36Z</dcterms:modified>
  <cp:revision>26</cp:revision>
  <dc:subject/>
  <dc:title>Create a sprite (just a picture)</dc:title>
</cp:coreProperties>
</file>