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067-B68E-4BE6-8992-CD3B8A21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B59-2B64-4439-9617-600B13ED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E5C-898D-4B81-8FD6-D1712CD7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788-87B9-47C3-9B5D-2858EC64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96C1-5B04-41EE-A55A-9A1258C0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B833-B721-4CBF-9359-7B8BDE08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54A8-0793-40BB-9DF0-D21816A1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69E5-EBA2-48F0-8D24-E145777B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128C-53DA-4CEE-BD39-E13274D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5E5F-B398-484A-8BED-4D31D7F5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DB56-859C-409C-9D19-0F0AE94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F90-B8E5-4A99-8682-4985A8D6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6DD9-1F6B-465F-B753-344DEC20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5653-D26A-450C-91B4-B4273183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063C-B297-4877-89DF-A2A37FAC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746C-9A36-44FA-B5D6-FE70BBB9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4529-6AE6-44DA-956F-6D9D1FD9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421-28A5-4715-93F1-F160085A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D0A-F327-4A75-B4A8-FC1B2448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B0F-C3A4-4D02-80A0-DFD4A0BC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48C-B327-4C81-9001-E5BC00D9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F1C-DA95-4C1C-8F6D-667DF4DD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651-D169-41DC-BBD2-9F31380A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DBF-8A75-4457-9A58-E743DC4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020C-6DE0-42C1-AB1C-F7DED58AD185}" type="slidenum"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74DC-EC0D-4B08-A831-E586F5580782}" type="slidenum"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yogames.com/" TargetMode="External"/><Relationship Id="rId2" Type="http://schemas.openxmlformats.org/officeDocument/2006/relationships/hyperlink" Target="http://www.yoyogames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Jazz Your Classes</a:t>
            </a:r>
            <a:br>
              <a:rPr sz="4000"/>
            </a:b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With</a:t>
            </a:r>
            <a:br>
              <a:rPr sz="24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Game Maker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Learning and Teaching Game Design with Free Softwar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2438280" y="4572000"/>
            <a:ext cx="4572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867b"/>
                </a:solidFill>
                <a:latin typeface="Arial"/>
              </a:rPr>
              <a:t>Stevie Via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867b"/>
                </a:solidFill>
                <a:latin typeface="Arial"/>
              </a:rPr>
              <a:t>Sherry Y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Some Competing Product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7524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Alic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tories, 3-D animations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cratch – MIT University- focus on younger kid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tories, Games, Animations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orque- Garage Games in Eugene, Microsof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Leading up to C++, VB, DirectX, and OpenGL graphics (Industrial strength )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Python and Vpython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You cannot teach beginners top-down programming, because they don't know which end is up.”  ~C.A.R. Hoare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Hands-On #1</a:t>
            </a:r>
            <a:br>
              <a:rPr sz="40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First Game – Keyboard Event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utorial #1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ontrolling motion of object with arrow key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Keyboard, Key Press, Key Releas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No key, Any Key even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Keys for moving two objects on screen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Hands-On #2</a:t>
            </a:r>
            <a:br>
              <a:rPr sz="40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Mouse Event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utorial #2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Button Event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Left, Right, Middle, No Button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Button Pressed, Released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Mouse Enter, Leav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Wheel Event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Joystick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Lesson plans you can use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Day 1 –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Introduce the Bouncing Bear Game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Day 2 –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Catch the Bear Game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Day 3 –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Editing Sprites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Day 4 –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Evaluate the Sample Games (part of the GM install)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Day 5 –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Students Revise one Sample Game &amp; keep a log of what features they changed, what they learned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Day 6 –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Pong for two players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SIOP/ELL Notes</a:t>
            </a:r>
            <a:br>
              <a:rPr sz="4000"/>
            </a:br>
            <a:r>
              <a:rPr b="0" lang="en-US" sz="3200" spc="-1" strike="noStrike">
                <a:solidFill>
                  <a:srgbClr val="5a867b"/>
                </a:solidFill>
                <a:latin typeface="Tahoma"/>
              </a:rPr>
              <a:t>Language Objectives, Content Objectives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emplate for recording activities, objective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Unraveling “Geek Speak”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838080" y="3200400"/>
            <a:ext cx="7848720" cy="3352680"/>
          </a:xfrm>
          <a:prstGeom prst="rect">
            <a:avLst/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838080" y="43434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4648320" y="3200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648320" y="3200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guage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914400" y="32767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38080" y="3200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ent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838080" y="434340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808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mmary-Follow Up-H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Hands-On #3</a:t>
            </a:r>
            <a:br>
              <a:rPr sz="40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Pong!! Collision Event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utorial #3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Using the Sprite Editor featur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wo-player gam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ound effect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Mark Your Calendars!!</a:t>
            </a:r>
            <a:br>
              <a:rPr sz="40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February 2011 </a:t>
            </a:r>
            <a:br>
              <a:rPr sz="40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4th Annual </a:t>
            </a:r>
            <a:br>
              <a:rPr sz="40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Oregon Game Programming Challenge</a:t>
            </a:r>
            <a:br>
              <a:rPr sz="40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 at Chemeketa Community College</a:t>
            </a:r>
            <a:br>
              <a:rPr sz="40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http://www.techstart.org/ogpc 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What is OGPC?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A day-long tournament for HS and MS team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Games are based on a research topic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eams are judged by presentations and game quality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eams write peer reviews of game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One total day of fun, inspiration, challenges, awards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Role of a coach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Know the rules of the tournamen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Recruit 3 to 7 student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Plan logistics of meeting &amp; programming sessions (room, computers, software)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Recruit mentors (might be the coach too)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Why Teach Game Design?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Games are where the kids are!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This is part of their world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Teach them how to be creative in their own element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Organization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Quality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Project Planning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eamwork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“Season”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182880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Pre-Season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Have kids take on mini-challenges- learn GM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During the Season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Kids research the topic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Brainstorm the game idea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Develop the game, graphics, team marketing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ubmit the planning documents in April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At the Tournamen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Kids present to Technical judges and Team Performance judges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Kids present their game to peers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Kids play other team’s games, evaluat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Lunch included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Inspirational speakers from industry, higher ed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Awards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Wrap Up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ssion Evaluation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ontact us: 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tevie Viaene – stevie.viaene@gmail.com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herry Yang - Sherry.Yang@oit.edu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Go Home and Play!!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And Oh, did we mention</a:t>
            </a:r>
            <a:br>
              <a:rPr sz="4000"/>
            </a:b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omputer Science Topics?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Analysis skill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oftware engineering principle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Object oriented thinking styl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Objects, Properties, and Methods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Project management technique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omputer Graphics skill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esting and Evaluating – Critical thinking!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Accessing resources – help screens, blog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Actual code scripting available too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And Fun!!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Kids will be showing off projects to friends and parent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Grading projects is fun for the teacher too!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Kids  start to generate ideas early on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eachable moments” abound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Easy to keep those sharp kids interested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Lite” Version is totally fre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Universities and Colleges offering Game Design degree program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University of Advancing Technologie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ITT Technical Institut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Art Institute of Portland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Los Angeles Film Schoo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ull Sail University, Florida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arnegie Melon University – Entertainment Technology Center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Why Use Game Maker Software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It’s free! 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Download Lite version from </a:t>
            </a:r>
            <a:r>
              <a:rPr b="0" lang="en-US" sz="2400" spc="-1" strike="noStrike" u="sng">
                <a:solidFill>
                  <a:srgbClr val="d1b4c8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d1b4c8"/>
                </a:solidFill>
                <a:uFillTx/>
                <a:latin typeface="Tahoma"/>
                <a:hlinkClick r:id="rId2"/>
              </a:rPr>
              <a:t>www.yoyogames.com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Quick learning curve. 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5a867b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Kids will have a game working the first day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Built-in features make game creation intuitiv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It can expand as the students advanc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More reasons for using GameMaker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Groups can work on a project and Merge their files easily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It runs on most any school PC computer and just recently a MAC version!!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eaching Resources are availabl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It is catching on in Oregon school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Kids can enter the OGPC using GameMaker!!  More on that later….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Downside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600200"/>
            <a:ext cx="7848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Large graphic files may slow down the machin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ource code can be viewed but not edited in Object Information screen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roubleshooting may become complex – but then you have the perfect chance to teach the design principles!!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Resource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Book – The Game Maker’s Apprentice ($26)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http://book.gamemaker.nl/frames.htm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or download the pdf at http://apress.com/book/view/1590596153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Official teacher’s site is http://www.gamelearning.net/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Yoyogames community – wiki,tutorials, blogs http://wiki.yoyogames.com/index.php/Main_Pag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uperQuest – summer week and fall inservice day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More and more all the tim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21:27:28Z</dcterms:created>
  <dc:creator>Stevie Viaene</dc:creator>
  <dc:description/>
  <dc:language>en-US</dc:language>
  <cp:lastModifiedBy>Stevie Viaene</cp:lastModifiedBy>
  <dcterms:modified xsi:type="dcterms:W3CDTF">2010-07-12T05:26:47Z</dcterms:modified>
  <cp:revision>12</cp:revision>
  <dc:subject/>
  <dc:title>Jazz Your Classes With GameMaker</dc:title>
</cp:coreProperties>
</file>