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C76-0C20-44FC-862A-E669FE13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339000"/>
            <a:ext cx="769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CB7A-5AB1-4994-8246-D4504701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33900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9600" y="333900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21FA-7A8D-4434-A42F-6252063D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7880" y="99072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89960" y="99072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33900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7880" y="333900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89960" y="333900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241-F74D-4A99-B6B2-B20CC34B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4C6A-0ABB-46DD-8AB2-37E691FE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483A-E0EE-4998-A0C1-0F891D86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7713-6DE8-48DD-AF6D-52E9B3F5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8C59-5095-422E-8AAB-F3D69311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FA6A-32D9-4400-8C76-028B1157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7620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95BE-1916-446E-9D90-1E5515CE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33900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06F2-9FB6-4A58-919C-D5CD57D9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EC3-ABD0-4452-969E-E52FBF0D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29600" y="333900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76C6-67FF-45E9-A944-BA1D1D07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3339000"/>
            <a:ext cx="769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0949-EE10-4536-B8F1-E6C6C996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800" y="3339000"/>
            <a:ext cx="769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CB64-BF95-4808-9BB5-3CEFF310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333900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29600" y="333900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34D3-7ECC-4723-8717-0DA41506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87880" y="99072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889960" y="99072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5800" y="333900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87880" y="333900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889960" y="333900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9A0C-FA49-42FC-9D29-A46729D4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2D01-423A-46AA-9BA6-F5320DFC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875-61A7-403E-8026-92CFE3BD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680-D847-4257-9C1D-C683C34E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7620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BBE5-615A-4684-AF1A-5ECC0A94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33900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795-C100-4ABC-BFA3-7053B4A2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9600" y="333900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5CF-A3A9-4211-B88F-36F519DD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339000"/>
            <a:ext cx="769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8A9-75F5-47C0-B91B-A566144C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188C-9E73-4210-9624-129EABAB2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53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4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3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4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7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58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3" name="Freeform 28"/>
          <p:cNvSpPr/>
          <p:nvPr/>
        </p:nvSpPr>
        <p:spPr>
          <a:xfrm>
            <a:off x="838080" y="525780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CC59-45B8-4BED-B1C6-72B24E8D0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6400800" cy="762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Unit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0" y="3505320"/>
            <a:ext cx="1676520" cy="1980720"/>
            <a:chOff x="0" y="3505320"/>
            <a:chExt cx="1676520" cy="1980720"/>
          </a:xfrm>
        </p:grpSpPr>
        <p:sp>
          <p:nvSpPr>
            <p:cNvPr id="108" name="Freeform 10"/>
            <p:cNvSpPr/>
            <p:nvPr/>
          </p:nvSpPr>
          <p:spPr>
            <a:xfrm>
              <a:off x="37800" y="3556440"/>
              <a:ext cx="1580760" cy="17982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Freeform 11"/>
            <p:cNvSpPr/>
            <p:nvPr/>
          </p:nvSpPr>
          <p:spPr>
            <a:xfrm>
              <a:off x="30240" y="3704760"/>
              <a:ext cx="1576800" cy="1781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Freeform 12"/>
            <p:cNvSpPr/>
            <p:nvPr/>
          </p:nvSpPr>
          <p:spPr>
            <a:xfrm>
              <a:off x="246600" y="3851640"/>
              <a:ext cx="1045440" cy="1625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1" name="Group 13"/>
            <p:cNvGrpSpPr/>
            <p:nvPr/>
          </p:nvGrpSpPr>
          <p:grpSpPr>
            <a:xfrm>
              <a:off x="0" y="3505320"/>
              <a:ext cx="1676520" cy="1911600"/>
              <a:chOff x="0" y="3505320"/>
              <a:chExt cx="1676520" cy="1911600"/>
            </a:xfrm>
          </p:grpSpPr>
          <p:sp>
            <p:nvSpPr>
              <p:cNvPr id="112" name="Freeform 14"/>
              <p:cNvSpPr/>
              <p:nvPr/>
            </p:nvSpPr>
            <p:spPr>
              <a:xfrm>
                <a:off x="1322280" y="4895280"/>
                <a:ext cx="148680" cy="37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" name="Freeform 15"/>
              <p:cNvSpPr/>
              <p:nvPr/>
            </p:nvSpPr>
            <p:spPr>
              <a:xfrm>
                <a:off x="0" y="3505320"/>
                <a:ext cx="1676520" cy="1911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" name="Freeform 16"/>
              <p:cNvSpPr/>
              <p:nvPr/>
            </p:nvSpPr>
            <p:spPr>
              <a:xfrm>
                <a:off x="141120" y="3522960"/>
                <a:ext cx="1184760" cy="108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" name="Freeform 17"/>
              <p:cNvSpPr/>
              <p:nvPr/>
            </p:nvSpPr>
            <p:spPr>
              <a:xfrm>
                <a:off x="200880" y="3687120"/>
                <a:ext cx="159480" cy="72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" name="Freeform 18"/>
              <p:cNvSpPr/>
              <p:nvPr/>
            </p:nvSpPr>
            <p:spPr>
              <a:xfrm>
                <a:off x="507960" y="4191480"/>
                <a:ext cx="485280" cy="64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730280" y="1854360"/>
            <a:ext cx="979560" cy="1159560"/>
            <a:chOff x="7730280" y="1854360"/>
            <a:chExt cx="979560" cy="1159560"/>
          </a:xfrm>
        </p:grpSpPr>
        <p:sp>
          <p:nvSpPr>
            <p:cNvPr id="118" name="Freeform 20"/>
            <p:cNvSpPr/>
            <p:nvPr/>
          </p:nvSpPr>
          <p:spPr>
            <a:xfrm rot="7320000">
              <a:off x="7725240" y="2197080"/>
              <a:ext cx="998640" cy="46476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Freeform 21"/>
            <p:cNvSpPr/>
            <p:nvPr/>
          </p:nvSpPr>
          <p:spPr>
            <a:xfrm rot="7320000">
              <a:off x="7700760" y="2175480"/>
              <a:ext cx="995400" cy="4600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Freeform 22"/>
            <p:cNvSpPr/>
            <p:nvPr/>
          </p:nvSpPr>
          <p:spPr>
            <a:xfrm rot="7320000">
              <a:off x="7869240" y="2159640"/>
              <a:ext cx="660600" cy="4204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1" name="Group 23"/>
            <p:cNvGrpSpPr/>
            <p:nvPr/>
          </p:nvGrpSpPr>
          <p:grpSpPr>
            <a:xfrm>
              <a:off x="7730280" y="1854360"/>
              <a:ext cx="979560" cy="1159560"/>
              <a:chOff x="7730280" y="1854360"/>
              <a:chExt cx="979560" cy="1159560"/>
            </a:xfrm>
          </p:grpSpPr>
          <p:sp>
            <p:nvSpPr>
              <p:cNvPr id="122" name="Freeform 24"/>
              <p:cNvSpPr/>
              <p:nvPr/>
            </p:nvSpPr>
            <p:spPr>
              <a:xfrm rot="7320000">
                <a:off x="7849800" y="260028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" name="Freeform 25"/>
              <p:cNvSpPr/>
              <p:nvPr/>
            </p:nvSpPr>
            <p:spPr>
              <a:xfrm rot="7320000">
                <a:off x="7690320" y="2187360"/>
                <a:ext cx="1058760" cy="49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" name="Freeform 26"/>
              <p:cNvSpPr/>
              <p:nvPr/>
            </p:nvSpPr>
            <p:spPr>
              <a:xfrm rot="7320000">
                <a:off x="7968240" y="2293560"/>
                <a:ext cx="749520" cy="27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" name="Freeform 27"/>
              <p:cNvSpPr/>
              <p:nvPr/>
            </p:nvSpPr>
            <p:spPr>
              <a:xfrm rot="7320000">
                <a:off x="8447400" y="2097720"/>
                <a:ext cx="99720" cy="18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" name="Freeform 28"/>
              <p:cNvSpPr/>
              <p:nvPr/>
            </p:nvSpPr>
            <p:spPr>
              <a:xfrm rot="7320000">
                <a:off x="8086680" y="2297880"/>
                <a:ext cx="306360" cy="16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7" name="Freeform 29"/>
          <p:cNvSpPr/>
          <p:nvPr/>
        </p:nvSpPr>
        <p:spPr>
          <a:xfrm>
            <a:off x="914400" y="60948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Freeform 30"/>
          <p:cNvSpPr/>
          <p:nvPr/>
        </p:nvSpPr>
        <p:spPr>
          <a:xfrm>
            <a:off x="457200" y="5791320"/>
            <a:ext cx="888840" cy="38088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9" name="Picture 26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3341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e Paddle Ob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wo Paddle objects  - one left and on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use keys to control the two paddles up and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up&gt; &amp; &lt;down&gt; for the right padd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w&gt; &amp; &lt;s&gt; for the left padd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lso need to add collision events for the bear if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des with one of the padd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des with the edge of the room (new ev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e Two Paddle ob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495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2"/>
          <a:stretch/>
        </p:blipFill>
        <p:spPr>
          <a:xfrm>
            <a:off x="1447920" y="704880"/>
            <a:ext cx="609588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Keyboard Events to Each Padd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2392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Keyboard Events to Each Padd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31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 Paddles to the ro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352680" y="1041480"/>
            <a:ext cx="5334120" cy="58165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4"/>
          <p:cNvSpPr/>
          <p:nvPr/>
        </p:nvSpPr>
        <p:spPr>
          <a:xfrm>
            <a:off x="304920" y="129528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Side Walls First by right click on the wal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ddle and add to the ro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Collision Events to B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make“LeftPaddle” and “RightPaddle” 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the Left Button event from B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1447920" y="2743200"/>
            <a:ext cx="640080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Collision Events to B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nce off both Left Paddle and Right Padd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8375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 Sc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914400" y="1859040"/>
            <a:ext cx="7696080" cy="4998960"/>
          </a:xfrm>
          <a:prstGeom prst="rect">
            <a:avLst/>
          </a:prstGeom>
          <a:ln w="0">
            <a:noFill/>
          </a:ln>
        </p:spPr>
      </p:pic>
      <p:sp>
        <p:nvSpPr>
          <p:cNvPr id="179" name="TextBox 4"/>
          <p:cNvSpPr/>
          <p:nvPr/>
        </p:nvSpPr>
        <p:spPr>
          <a:xfrm>
            <a:off x="380880" y="10666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mp up the score each time the paddle hits the b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sect Bound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ly event left to add is what happens when the paddle misses the be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s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art game (move the bear to a random spo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GameMaker, there are special events to detect if an object is outside the room or intersect the boundary of a room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Game:  Bear Po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ing spr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multiple sets of keyboard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sect Bound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495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525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ect Bound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ubtract 1 from sco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495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7772400" cy="5445000"/>
          </a:xfrm>
          <a:prstGeom prst="rect">
            <a:avLst/>
          </a:prstGeom>
          <a:ln w="0">
            <a:noFill/>
          </a:ln>
        </p:spPr>
      </p:pic>
      <p:sp>
        <p:nvSpPr>
          <p:cNvPr id="188" name="Oval 6"/>
          <p:cNvSpPr/>
          <p:nvPr/>
        </p:nvSpPr>
        <p:spPr>
          <a:xfrm>
            <a:off x="4267080" y="3733920"/>
            <a:ext cx="251460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25360" y="-146160"/>
            <a:ext cx="8620200" cy="1474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1752480" y="995400"/>
            <a:ext cx="579132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e a Paddle spr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ttached image of a horizontal blue paddle.  We need to create two paddles using this image – a vertical blue paddle and a vertical red padd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eMaker has a built-in Sprite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e a Paddle Spr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5639040" cy="39117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Edit Sp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762120" y="2895480"/>
            <a:ext cx="175248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Click on “image 0” to open Image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24852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e the image to make it ver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495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307360" cy="46479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1295280" y="6248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ve Chan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609480" y="2057400"/>
            <a:ext cx="137160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6" name="Straight Arrow Connector 8"/>
          <p:cNvCxnSpPr/>
          <p:nvPr/>
        </p:nvCxnSpPr>
        <p:spPr>
          <a:xfrm flipH="1" flipV="1">
            <a:off x="1371240" y="3428280"/>
            <a:ext cx="838800" cy="2896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other paddle and Edit Sp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495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76197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Editor to create a vertical red paddle (use rot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924680" cy="3695760"/>
          </a:xfrm>
          <a:prstGeom prst="rect">
            <a:avLst/>
          </a:prstGeom>
          <a:ln w="0">
            <a:noFill/>
          </a:ln>
        </p:spPr>
      </p:pic>
      <p:cxnSp>
        <p:nvCxnSpPr>
          <p:cNvPr id="152" name="Straight Arrow Connector 9"/>
          <p:cNvCxnSpPr/>
          <p:nvPr/>
        </p:nvCxnSpPr>
        <p:spPr>
          <a:xfrm>
            <a:off x="303840" y="2209680"/>
            <a:ext cx="610200" cy="1372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3" name="Straight Arrow Connector 11"/>
          <p:cNvCxnSpPr/>
          <p:nvPr/>
        </p:nvCxnSpPr>
        <p:spPr>
          <a:xfrm flipH="1" flipV="1">
            <a:off x="1370880" y="4800240"/>
            <a:ext cx="610200" cy="1829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4" name="Straight Arrow Connector 15"/>
          <p:cNvCxnSpPr/>
          <p:nvPr/>
        </p:nvCxnSpPr>
        <p:spPr>
          <a:xfrm flipH="1">
            <a:off x="7619400" y="1676160"/>
            <a:ext cx="610200" cy="2896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5" name="TextBox 16"/>
          <p:cNvSpPr/>
          <p:nvPr/>
        </p:nvSpPr>
        <p:spPr>
          <a:xfrm>
            <a:off x="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 (make it easier to work wit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17"/>
          <p:cNvSpPr/>
          <p:nvPr/>
        </p:nvSpPr>
        <p:spPr>
          <a:xfrm>
            <a:off x="2057400" y="6324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 ca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19"/>
          <p:cNvSpPr/>
          <p:nvPr/>
        </p:nvSpPr>
        <p:spPr>
          <a:xfrm>
            <a:off x="685800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col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5:31:13Z</dcterms:created>
  <dc:creator>Sherry Yang</dc:creator>
  <dc:description/>
  <dc:language>en-US</dc:language>
  <cp:lastModifiedBy>yangs</cp:lastModifiedBy>
  <dcterms:modified xsi:type="dcterms:W3CDTF">2008-10-06T00:38:40Z</dcterms:modified>
  <cp:revision>35</cp:revision>
  <dc:subject/>
  <dc:title>Create a sprite (just a picture)</dc:title>
</cp:coreProperties>
</file>